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2D85-E629-422D-8C89-102852420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62E8-9CAD-491A-8415-6BAB86E27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2B8D-2835-47D3-B7E3-11E03F5CD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6BD5-CA56-432F-84F3-C28778678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735D-F31E-435F-A33D-978C3FAB0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0C5B-1209-470B-81B9-4F43932D5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A8AF-77B3-43CC-BB14-087AE6880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5082-1789-4F03-ACE7-415CE2FC0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4334-7357-47AC-949B-C3794543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987E-C7DA-4922-803A-2300DDFB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7421-0C2E-46F4-93E4-67161821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9647-EB2C-4B82-9FCE-311B6230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D6A7F-627A-4CE9-B655-D520176D9E5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3276720"/>
            <a:ext cx="487656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短语集萃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0400" y="295200"/>
            <a:ext cx="86742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times people are in a position that they can m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ecision about a person they h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might as well to go stand upon the beach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e with the s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you offered me with six times what you have j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ered,I would still take my pound of fles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can you hope for mercy yourself when 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 neith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Shylock cuts deeply enough,I’ll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y him 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all my hea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91320" y="762120"/>
            <a:ext cx="8380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63600" y="67644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00400" y="1600200"/>
            <a:ext cx="457200" cy="5335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48120" y="21240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62520" y="2133720"/>
            <a:ext cx="38088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6720" y="2895480"/>
            <a:ext cx="60948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301520" y="334332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5029200"/>
            <a:ext cx="10666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81440" y="4791240"/>
            <a:ext cx="91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971800" y="5867280"/>
            <a:ext cx="8380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82000" y="593424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e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3352680"/>
            <a:ext cx="685800" cy="5335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93040" y="228600"/>
            <a:ext cx="81831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onio told him that all his ships were at the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he had no money at pres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sanio tried to keep Antonio from accept the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s,but Antonio treated them as a jo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is young,but I never knew so young a body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h wise a 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anyone tries to murder any citizen of Veni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ything what he owns shall be taken aw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shall not have you killed,so that you would s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ifference of our spir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228600"/>
            <a:ext cx="380880" cy="609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853240" y="828720"/>
            <a:ext cx="65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995880" y="2048040"/>
            <a:ext cx="162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ccep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3733920"/>
            <a:ext cx="6094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19160" y="31910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38280" y="4952880"/>
            <a:ext cx="8384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834680" y="463860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629400" y="5867280"/>
            <a:ext cx="9144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14440" y="5934240"/>
            <a:ext cx="7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762120"/>
            <a:ext cx="533520" cy="609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80880" y="76320"/>
            <a:ext cx="12859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9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1046880" y="558720"/>
            <a:ext cx="28112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就我所知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毕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在这个特别的情况里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可怜…，怜惜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做…没用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还是做某事的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向某人宣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指控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撕毁，取消（合同等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0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偿还，报答，报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与…相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有一个条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任…摆布，由…掌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跪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40800" y="53352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as far as I know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8320" y="990720"/>
            <a:ext cx="164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after all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68520" y="1371600"/>
            <a:ext cx="355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in this particular ca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339720" y="1905120"/>
            <a:ext cx="559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have mercy on …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或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show mercy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46080" y="3124080"/>
            <a:ext cx="336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pass judgment on s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431520" y="2666880"/>
            <a:ext cx="411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may/might as well do sth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45560" y="3962520"/>
            <a:ext cx="12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tear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40280" y="4419720"/>
            <a:ext cx="155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pay 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15680" y="4800600"/>
            <a:ext cx="297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be/fall in love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20960" y="5181480"/>
            <a:ext cx="26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on one con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6280" y="563868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at the mercy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31320" y="6095880"/>
            <a:ext cx="373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go down on one’s kn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957040" y="222408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t’s useless doing s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0040" y="3571920"/>
            <a:ext cx="219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e accused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2743200"/>
            <a:ext cx="7153200" cy="289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Multiple choices 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533520" y="304920"/>
            <a:ext cx="12859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9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0" name=""/>
          <p:cNvSpPr/>
          <p:nvPr/>
        </p:nvSpPr>
        <p:spPr>
          <a:xfrm>
            <a:off x="-218880" y="990720"/>
            <a:ext cx="9740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I won’t lend you the car ________ you return it to 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morrow mor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now that                           B. even if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on condition that              D. un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Your house is  three time_________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e size    B. what if    C. as bigger as   D. the size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________from his appearance, he doesn’t look like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honest m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Judging     B. Judged   C. To judge  D. Being ju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________late in the morning, Bob turned off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a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o sleep     B. Sleeping     C. Sleep     D. Having sle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710600" y="9050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63240" y="27338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53000" y="3419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129320" y="4791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91240" y="219240"/>
            <a:ext cx="87883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house rent is expensive. I’ve got about half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ace I had at home and I’m paying ________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as three times much       B. as much three t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much as three times       D. three times as m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How do you find the dishes in my restaurant ?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I ordered it ahead of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I read it in an 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I’ve never had such delicious dishes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It’s surprising that you asked me t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 He asked me _________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o pass him the red penc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that I pass him the red penc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for passing him the red pencil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if I passed him the red penc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44320" y="600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063640" y="1895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63040" y="4029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87280" y="528480"/>
            <a:ext cx="8318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fter everybody __________, the meeting beg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as seated   B. seated   C. was sat   D. took se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. Did they_______any agreement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arrive at   B. come  to   C. reach  D.  A, B and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.It is no use ________forward to _______Jack so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o look; hearing      B. looking ;hearing f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o look ; hear         D. looking ; hear f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. ---When will the train arrive at Liverpoo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The train attendant told me__________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e train will arrive after half an h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the train was going to arrive in half an h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he train is going to arrive in half an h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the train would arrive in half an h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96200" y="4478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77240" y="1362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110040" y="22003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929920" y="4029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-74880" y="219240"/>
            <a:ext cx="91267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2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mercy was shown_________the war prison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on              B. upon           C. to             D.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. Have you tasted the ________of the frog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pork             B. flesh         C. beef         D. me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. The judge ordered the prisoner _______at o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sets free          B. set free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be set free         D. would be set f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. I was surprised that they finished _________half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work in such a short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less than                  B. no more th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not more than         D. more th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. “Very well, dear, you ________have the evening dress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im suggested his w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shall         B. will        C. can       D. m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53400" y="66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24440" y="9050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25000" y="1819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310800" y="3114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29720" y="4867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01680" y="219240"/>
            <a:ext cx="8718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7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ttle Tommy was reluctant to tell the headma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he had done the day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at       B. how        C. where      D. w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. Hope _______the best ; prepare_______the wor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for; /        B. / ; for       C. for ; for      D. with ;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. His parents didn’t have enough money to 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s higher edu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pay          B. pay for        C. pay off       D. pay 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86520" y="600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43720" y="1371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758360" y="2286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2338560" y="2581200"/>
            <a:ext cx="4466880" cy="16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9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s</cp:lastModifiedBy>
  <dcterms:modified xsi:type="dcterms:W3CDTF">2005-06-19T12:51:25Z</dcterms:modified>
  <cp:revision>19</cp:revision>
  <dc:subject/>
  <dc:title>PowerPoint Presentation</dc:title>
</cp:coreProperties>
</file>